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FA6-DFD0-4FAB-9D74-A287EEE5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FD3-BB0A-4D87-9149-5712C0A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A137-FF6B-4CB5-87EB-234928C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52619-CE88-499E-8516-54154C8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0D4B-B46C-4C0B-989E-BEFBCF10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38F25-8132-48E3-A102-1315B5EC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62DD0-20F3-4425-BD66-80C0861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6481-53AE-4318-A6B3-948ADC1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DBCF-B698-4DB7-BA2E-360078F4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43DF0-A775-4554-BC9A-D85FD8CC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F4248-F1C1-4E3C-A3F8-E0BD33F2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FC7-0AF0-440E-A135-1822EB10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806-66B3-442D-AA9B-0475FFE1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FC63-F873-4E45-9F72-7E78050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F517-6429-4B6A-A6A5-19BCDB4E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D2C-7642-42D6-B253-358334CE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E92A-B600-4EDD-BD4F-46ADE7A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C6D-24C3-47DB-B421-91FBFD8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9846-CEFF-4024-AE63-5D5E517D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4E44-FBC1-4E98-A606-C93244C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D1D-6495-43A7-80B6-41AB9CE7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8931-0A8C-4BDB-A40F-317F315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9E92-C146-4BFF-B243-6215A20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9329-DA35-495B-A52F-38F4527F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FB85-768C-47DC-B043-C3DC53D9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5B4F-1F15-4711-81C2-C0DC5E37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91FC-003D-48CA-8A08-5C8A5EE6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C6FC-7CBA-49D1-B800-84F6C909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2ECB-A6D8-4CE3-8608-6F95AC22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04B7-1C0B-40F3-8D25-DA5FB7A0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15E56-CF2F-48A2-A3FA-205282A8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B9F-2495-491C-B338-0987EF9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A213-B1DC-4636-8B45-A746DB82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A098-3D72-4262-ADFD-8349C1D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5081-426F-4554-BFD6-1C63FF2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42F9-643A-48B9-8547-D0F5775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2982-1A39-41BA-91F7-6BF53F76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CD0A-7D2C-4FA4-80BA-F3B7FF22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1864-0FBC-4006-88CE-2EFDC7C4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F5C2-3FAC-4BAC-AD65-41501368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B91A-2223-40BE-8E1B-687FB426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9356-F82F-4D88-B28E-F3A10350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2DD-3387-4023-8279-C81B54DF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C175B-F9DE-4BE3-B7DF-5075B472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1FC91-2E7E-4537-A71B-EA77A0B4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4F97-A4AB-464E-B653-30938A6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D0C2-D7AA-4087-A5DD-7E6E0AC5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C52C-0A42-49E2-AD55-20F4818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AA5F-15A3-4EED-A7CB-9785A7B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C36D-F529-4B14-92A3-1A43AF8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0EEA-60A8-43E5-996F-AAB63A6D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047D-39E8-417D-AF44-F51D6D10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0C7C-C97B-43CA-9C04-9A7AFFA7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C43-CAA9-4C38-9568-D4AED46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8051-7F38-4140-89DB-C8D6597A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E4FC-BEA1-4C36-88F7-5546A6C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208B-3581-4F13-87CA-9D91F6C0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3A85-17AF-4522-BBC2-6FF2B2F0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5167-AABA-44DD-9402-CF016BE8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B69F-8A82-4D85-A441-2162D71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9137C-8FFD-405E-AFBC-9EC5214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ABBC8-07DA-4DAE-8B7F-EAA6A5CF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C8C33-5228-4F56-8DA9-532EE48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DDB0-3995-46EB-8213-43A4B517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85C-4A12-4898-B92E-C224226B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7670-DD7B-4860-992E-5C6AA88D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27B7-73A5-421B-97DE-FF75DB6B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6A520-A1CA-4055-9595-C1AB073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69368-0305-4C83-B8F6-5DCE18FA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868F-CA9C-477A-8C01-9CFD0C1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6505E-E44D-41E7-9E06-3E54354D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7F8E-ED28-4561-BF90-91766F23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3C86-CB81-4379-83AB-725998D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0302-266E-4F08-BD4A-4C1FD20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F7A27-E1E8-43D0-BFE1-DB575823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944-0043-408A-B5A3-283A46A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54C3-C1C5-4DC4-8C00-E00FAEF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2878-9447-4677-BD7A-62D61705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BA662-FEA7-4311-B2B2-CD126D06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AC000-5921-4492-8AFD-D44AFE73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3B480-CE25-4491-978E-9AA792AF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370F6-4FC1-4873-ADC4-2F638D91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04C8-4523-4BE4-AB1F-CE8FAFE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89DA-5D92-4FA3-9B83-632A491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9DE1-EECC-4765-AE72-97254C40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318A-D7DD-4BBD-8490-F6C776C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750-CBBB-474E-A2CC-463C1CE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5E51-DF60-4C4E-A33A-78798733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26428-DCCD-4C69-A136-CC4AF0C1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2E60A-5CD9-4DED-B297-E6676E9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81ECB-C246-450F-AE30-AC874E96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FE4B-14D1-4736-B393-1F8255EA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85A3-FA27-4C6D-BA57-0177BD70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2F5D4-557B-4EFD-A212-121A9A38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BB5FA-8B0B-4E3D-BF6C-109BABD5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A9D38-5614-4337-9AFB-C8775AC1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448CE-8D84-49B6-A73D-85182700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2F2-58CE-4133-9C78-EC5DAD6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7E6A-5206-47E4-BFBC-DCD4482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8451-456B-41DB-8689-5D18C8D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92A6-58B7-4F7F-A46C-218C8EA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4FC54-BDA8-427B-928B-9980F7A1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260DC-42EB-41C2-AED6-7254782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B2262-38BE-4E60-A2E2-333E977C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3912-2AD5-4DDC-96D1-1767B875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F733A-62D5-4272-94E4-A1BB19FF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D37EF-EE1F-4500-93F4-6C8759CA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2BFC-1EC8-422D-AF10-4901CAF5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590-CF2A-4212-B63F-5DD6AC52BFE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6B0-D124-4984-8CD2-C94C5173B97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5C78-D1C9-44B7-9DC6-D2B518207E2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4428-6982-41D6-B40E-D62B44207E8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7F2F-DEED-447C-AE6E-564E4228E7D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CE3-D6E3-4203-9B13-123E075A3A4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FDE-1B6B-4BB7-92F5-6747DA614A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AD8E-806A-46E9-A0D9-D6496F4935F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5C08-4305-413D-8386-7885F124907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85840" y="1974960"/>
            <a:ext cx="8638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this project presents a new system configuration of the front-end rectifier stage for a hybrid wind/photovoltaic energy system. This configuration allows the two sources to supply the load separately or simultaneously depending on the availability of the energy sourc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34"/>
          <p:cNvGrpSpPr/>
          <p:nvPr/>
        </p:nvGrpSpPr>
        <p:grpSpPr>
          <a:xfrm>
            <a:off x="1905120" y="1828800"/>
            <a:ext cx="5410080" cy="3886200"/>
            <a:chOff x="1905120" y="1828800"/>
            <a:chExt cx="5410080" cy="3886200"/>
          </a:xfrm>
        </p:grpSpPr>
        <p:grpSp>
          <p:nvGrpSpPr>
            <p:cNvPr id="404" name="Group 23"/>
            <p:cNvGrpSpPr/>
            <p:nvPr/>
          </p:nvGrpSpPr>
          <p:grpSpPr>
            <a:xfrm>
              <a:off x="1905120" y="1828800"/>
              <a:ext cx="5410080" cy="3886200"/>
              <a:chOff x="1905120" y="1828800"/>
              <a:chExt cx="5410080" cy="3886200"/>
            </a:xfrm>
          </p:grpSpPr>
          <p:sp>
            <p:nvSpPr>
              <p:cNvPr id="405" name="Rectangle 3"/>
              <p:cNvSpPr/>
              <p:nvPr/>
            </p:nvSpPr>
            <p:spPr>
              <a:xfrm>
                <a:off x="1905120" y="2894040"/>
                <a:ext cx="1011240" cy="823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ICR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ROLLER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4"/>
              <p:cNvSpPr/>
              <p:nvPr/>
            </p:nvSpPr>
            <p:spPr>
              <a:xfrm>
                <a:off x="3270240" y="2894040"/>
                <a:ext cx="901440" cy="823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river Un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5"/>
              <p:cNvSpPr/>
              <p:nvPr/>
            </p:nvSpPr>
            <p:spPr>
              <a:xfrm>
                <a:off x="4837320" y="4837320"/>
                <a:ext cx="1214280" cy="877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- Supp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6"/>
              <p:cNvSpPr/>
              <p:nvPr/>
            </p:nvSpPr>
            <p:spPr>
              <a:xfrm>
                <a:off x="1905120" y="1890360"/>
                <a:ext cx="87768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-supp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7"/>
              <p:cNvSpPr/>
              <p:nvPr/>
            </p:nvSpPr>
            <p:spPr>
              <a:xfrm>
                <a:off x="3219480" y="1882440"/>
                <a:ext cx="95076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 –Dc rectifi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8"/>
              <p:cNvSpPr/>
              <p:nvPr/>
            </p:nvSpPr>
            <p:spPr>
              <a:xfrm>
                <a:off x="4829400" y="1828800"/>
                <a:ext cx="1170000" cy="814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-dc co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9"/>
              <p:cNvSpPr/>
              <p:nvPr/>
            </p:nvSpPr>
            <p:spPr>
              <a:xfrm>
                <a:off x="4829400" y="2854080"/>
                <a:ext cx="1170000" cy="792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 –ac i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0"/>
              <p:cNvSpPr/>
              <p:nvPr/>
            </p:nvSpPr>
            <p:spPr>
              <a:xfrm>
                <a:off x="4837320" y="3833640"/>
                <a:ext cx="1214280" cy="801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c – dc conver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6437520" y="2894040"/>
                <a:ext cx="877680" cy="752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a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ight Arrow 15"/>
              <p:cNvSpPr/>
              <p:nvPr/>
            </p:nvSpPr>
            <p:spPr>
              <a:xfrm>
                <a:off x="4172040" y="3270240"/>
                <a:ext cx="657000" cy="177480"/>
              </a:xfrm>
              <a:prstGeom prst="rightArrow">
                <a:avLst>
                  <a:gd name="adj1" fmla="val 50000"/>
                  <a:gd name="adj2" fmla="val 58406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ight Arrow 17"/>
              <p:cNvSpPr/>
              <p:nvPr/>
            </p:nvSpPr>
            <p:spPr>
              <a:xfrm>
                <a:off x="2782800" y="2266920"/>
                <a:ext cx="438120" cy="155520"/>
              </a:xfrm>
              <a:prstGeom prst="rightArrow">
                <a:avLst>
                  <a:gd name="adj1" fmla="val 50000"/>
                  <a:gd name="adj2" fmla="val 5833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ight Arrow 18"/>
              <p:cNvSpPr/>
              <p:nvPr/>
            </p:nvSpPr>
            <p:spPr>
              <a:xfrm>
                <a:off x="5999400" y="3208320"/>
                <a:ext cx="438120" cy="185400"/>
              </a:xfrm>
              <a:prstGeom prst="rightArrow">
                <a:avLst>
                  <a:gd name="adj1" fmla="val 50000"/>
                  <a:gd name="adj2" fmla="val 58421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Up Arrow 21"/>
              <p:cNvSpPr/>
              <p:nvPr/>
            </p:nvSpPr>
            <p:spPr>
              <a:xfrm>
                <a:off x="5343480" y="4635720"/>
                <a:ext cx="150480" cy="191880"/>
              </a:xfrm>
              <a:prstGeom prst="upArrow">
                <a:avLst>
                  <a:gd name="adj1" fmla="val 50000"/>
                  <a:gd name="adj2" fmla="val 42917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Up Arrow 22"/>
              <p:cNvSpPr/>
              <p:nvPr/>
            </p:nvSpPr>
            <p:spPr>
              <a:xfrm>
                <a:off x="5343480" y="3646440"/>
                <a:ext cx="150480" cy="179280"/>
              </a:xfrm>
              <a:prstGeom prst="upArrow">
                <a:avLst>
                  <a:gd name="adj1" fmla="val 50000"/>
                  <a:gd name="adj2" fmla="val 42934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ight Arrow 42"/>
              <p:cNvSpPr/>
              <p:nvPr/>
            </p:nvSpPr>
            <p:spPr>
              <a:xfrm>
                <a:off x="4464000" y="4149720"/>
                <a:ext cx="372960" cy="161640"/>
              </a:xfrm>
              <a:prstGeom prst="rightArrow">
                <a:avLst>
                  <a:gd name="adj1" fmla="val 50000"/>
                  <a:gd name="adj2" fmla="val 58410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Down Arrow 45"/>
              <p:cNvSpPr/>
              <p:nvPr/>
            </p:nvSpPr>
            <p:spPr>
              <a:xfrm>
                <a:off x="5343480" y="2643120"/>
                <a:ext cx="150480" cy="210960"/>
              </a:xfrm>
              <a:prstGeom prst="downArrow">
                <a:avLst>
                  <a:gd name="adj1" fmla="val 50000"/>
                  <a:gd name="adj2" fmla="val 42927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3"/>
            <p:cNvGrpSpPr/>
            <p:nvPr/>
          </p:nvGrpSpPr>
          <p:grpSpPr>
            <a:xfrm>
              <a:off x="2259000" y="2260440"/>
              <a:ext cx="2578680" cy="3184560"/>
              <a:chOff x="2259000" y="2260440"/>
              <a:chExt cx="2578680" cy="3184560"/>
            </a:xfrm>
          </p:grpSpPr>
          <p:sp>
            <p:nvSpPr>
              <p:cNvPr id="422" name="Bent Arrow 28"/>
              <p:cNvSpPr/>
              <p:nvPr/>
            </p:nvSpPr>
            <p:spPr>
              <a:xfrm rot="16200000">
                <a:off x="2684520" y="3291840"/>
                <a:ext cx="1727280" cy="2578680"/>
              </a:xfrm>
              <a:prstGeom prst="pie">
                <a:avLst/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ight Arrow 29"/>
              <p:cNvSpPr/>
              <p:nvPr/>
            </p:nvSpPr>
            <p:spPr>
              <a:xfrm>
                <a:off x="4180320" y="2260440"/>
                <a:ext cx="657360" cy="161640"/>
              </a:xfrm>
              <a:prstGeom prst="rightArrow">
                <a:avLst>
                  <a:gd name="adj1" fmla="val 50000"/>
                  <a:gd name="adj2" fmla="val 4693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Bent Arrow 31"/>
              <p:cNvSpPr/>
              <p:nvPr/>
            </p:nvSpPr>
            <p:spPr>
              <a:xfrm>
                <a:off x="4381920" y="2422080"/>
                <a:ext cx="455760" cy="1835280"/>
              </a:xfrm>
              <a:prstGeom prst="pie">
                <a:avLst/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ight Arrow 32"/>
              <p:cNvSpPr/>
              <p:nvPr/>
            </p:nvSpPr>
            <p:spPr>
              <a:xfrm>
                <a:off x="2916360" y="3232080"/>
                <a:ext cx="353880" cy="161640"/>
              </a:xfrm>
              <a:prstGeom prst="rightArrow">
                <a:avLst>
                  <a:gd name="adj1" fmla="val 50000"/>
                  <a:gd name="adj2" fmla="val 46908"/>
                </a:avLst>
              </a:prstGeom>
              <a:solidFill>
                <a:srgbClr val="f0a22e"/>
              </a:solidFill>
              <a:ln w="25560">
                <a:solidFill>
                  <a:srgbClr val="b076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ow  operating co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asy to charg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igh   power  qual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tributed Generation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Application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stant Speed and Variable Speed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Win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nergy Conversion Systems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hotovoltaic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Energy Syste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. S.K. Kim, J.H Jeon, C.H. Cho, J.B. Ahn, and S.H. Kwon, “Dynamic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Modeling and Control of a Grid-Connected Hybrid Generation Syste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with Versatile Power Transfer,”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EEE Transactions on Industria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lectronics, vol. 55, pp. 1677-1688, April 2008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. D. Das, R. Esmaili, L. Xu, D. Nichols, “An Optimal Design of a Gri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onnected Hybrid Wind/Photovoltaic/Fuel Cell System for Distribu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ergy Production,”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Proc. IEEE Industrial Electronics Conference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p. 2499-2504, Nov. 2005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1:17:45Z</dcterms:created>
  <dc:creator/>
  <dc:description>Electrical Projects</dc:description>
  <dc:language>en-US</dc:language>
  <cp:lastModifiedBy>Brigade</cp:lastModifiedBy>
  <dcterms:modified xsi:type="dcterms:W3CDTF">2011-08-23T17:25:38Z</dcterms:modified>
  <cp:revision>0</cp:revision>
  <dc:subject>Electrical Projects</dc:subject>
  <dc:title>EEE IEEE Projects</dc:title>
</cp:coreProperties>
</file>